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F973-202A-42A9-A2A9-3BC4413E2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142D-16A1-400A-815D-6EEAC2E2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30A0-A27C-49FA-94BC-DBBC53E3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FA01-944E-45A2-8198-9E696492A8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EBA-8888-4467-9651-8C6EA9B7F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6C5-1120-4DAA-BB88-766D3512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719-B7D8-414B-AAB8-C8C2216A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961-8E06-4681-BEC5-386DF92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04C-E8EF-468E-9A97-A63B863B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3F7-BF84-476E-864E-B578E893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E02-82BE-4FFE-B825-3E7A76C0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2F9E-7381-44D3-A78E-CDADCDD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C4B-2451-4C52-A2FE-A60EBCD1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E57-E3F8-4C75-9C0F-6D4C24C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DFC-DD1F-4873-BE7F-18211FD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ECC-CBD6-485F-BD98-DC79868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744-21DC-4F53-8DB6-074236188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C10C-1732-451A-8DE0-50F8C2EC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0B6-2329-4C8D-AC66-F6BDDAB9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BF30-502F-440A-835B-3B378DF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E56B-762E-4D41-976D-20B33E5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93A3-24C8-40E5-AE38-ADD2C45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5C74-E841-421F-AE67-862E1FC5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B36-2029-41E9-83A3-ECB76C4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C8B-151C-4066-AA2D-FAA51F74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28E6-5FAB-42D6-A08B-B72EC5D5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963D-90D9-4646-8635-45A773B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97AE-9274-48BC-BB60-C7AC86DC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A5BB-F4B3-41BE-B005-8F14CF2F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42D2-6D17-4C95-AD0D-AB198F7F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06F8-5CC0-4988-9F8D-229966C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9CE4-6E68-425E-8920-97BC987C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6098-42EF-4F05-874A-64567DDD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6A6B-9F4E-4414-A257-1F81EAD8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B411-D816-441E-8E36-7EB30CD3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489D-6CC1-4E68-ADCE-CD24C72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871-ABFE-43A0-BD76-22DED122B4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D0CD-309F-457F-843E-4A00AE63F8C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ril 29-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D125-9C03-458F-9C96-82B5FFAA17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7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5 Technical Consulting Meeting for EMR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?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DF5 Mathematical Concepts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E75-F907-48B1-B18B-F4D4B0404CC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s -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s are objects in an HDF5 that represent “real” application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-like curr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s have three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spa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current and maximum dimensions of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ype of elements i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 values stored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84B1-F04D-404E-B527-2ADE5E0FB7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Small2DDatasetpng.png"/>
          <p:cNvPicPr/>
          <p:nvPr/>
        </p:nvPicPr>
        <p:blipFill>
          <a:blip r:embed="rId1"/>
          <a:stretch/>
        </p:blipFill>
        <p:spPr>
          <a:xfrm>
            <a:off x="3063960" y="4721400"/>
            <a:ext cx="19717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s – Measurement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algebraic concept of independent and dependent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Y Pl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722-C8CC-41A0-9CA4-7C57DAF75E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2DPlot.png"/>
          <p:cNvPicPr/>
          <p:nvPr/>
        </p:nvPicPr>
        <p:blipFill>
          <a:blip r:embed="rId1"/>
          <a:stretch/>
        </p:blipFill>
        <p:spPr>
          <a:xfrm>
            <a:off x="1333440" y="2455920"/>
            <a:ext cx="59547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– Measurement Example,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Y Plot data in Datab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A8B9-D8DF-489F-B023-C71A9253DA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2DPlotDatabase.png"/>
          <p:cNvPicPr/>
          <p:nvPr/>
        </p:nvPicPr>
        <p:blipFill>
          <a:blip r:embed="rId1"/>
          <a:stretch/>
        </p:blipFill>
        <p:spPr>
          <a:xfrm>
            <a:off x="4917960" y="1251000"/>
            <a:ext cx="10256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– Measurement Example,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Y Plot data in HDF5 Datas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7084-8A29-41D1-9E8A-6360BE0EDE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2DPlotHDF5Dataset.png"/>
          <p:cNvPicPr/>
          <p:nvPr/>
        </p:nvPicPr>
        <p:blipFill>
          <a:blip r:embed="rId1"/>
          <a:stretch/>
        </p:blipFill>
        <p:spPr>
          <a:xfrm>
            <a:off x="1320840" y="2549520"/>
            <a:ext cx="6502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– Measurement Example,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HDF5, independent variables are implicit and not stored (they are the coordinates of elements in arr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Database, independent variables are explicitly stored in each rec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packed” HDF5 dataset of N dimensions is up to N times smaller than database table storing the sam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23D-5401-4387-A47E-4DDDD3903C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s -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would storing data in a database table be better than storing the same data in an HDF5 datas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ere measuring two dependent values at each coordinate, what are the trade-offs between storing them as a pair for each element in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ng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 and storing each one in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par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5FD5-3292-41BD-BB29-CF90378073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amental HDF5 Objects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ers of links to o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arbitrary directed graph 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lti-dimensional arrays of el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mathematical concept of fiber bundles, but can be thought of in terms of independent and dependent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2C6F-899E-4D0D-96AD-465FE6F9BC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79DC-E9D6-4D59-AB7C-AA110E0474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40040" y="2305080"/>
            <a:ext cx="34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– Fiber Bun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Datasets actually based on mathematical concept of “fiber bund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01D9-90F8-4522-AFB5-E72D8041D0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4684680" y="1554120"/>
            <a:ext cx="4280040" cy="3276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174600" y="4830840"/>
            <a:ext cx="879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iber bundle consists of the dat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π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opological spaces and π 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inuous surjection satisfy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 trivi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 outlined below. The sp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sp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und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sp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set – Fiber Bundles,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2A2-E962-4FCE-9AB5-08C831DDDD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291960" y="1058760"/>
            <a:ext cx="42800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523880" y="4513320"/>
          <a:ext cx="6096240" cy="1854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hem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F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ber Bun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ber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pic>
        <p:nvPicPr>
          <p:cNvPr id="224" name="Picture 9" descr="Small2DDatasetpng.png"/>
          <p:cNvPicPr/>
          <p:nvPr/>
        </p:nvPicPr>
        <p:blipFill>
          <a:blip r:embed="rId2"/>
          <a:stretch/>
        </p:blipFill>
        <p:spPr>
          <a:xfrm>
            <a:off x="4819680" y="1990800"/>
            <a:ext cx="1971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 HDF5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ers of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creating arbitrary directed graphs, including non-treelike and cyclic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-dimensional arrays (current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mathematical concept of “fiber bundle” – representing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ver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AF8-7D76-4C8B-B868-9B5CD9FA62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-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s are container objects in a file that follow a “set” data structure semanti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s contain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wo links in a group can have the same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s have two compon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links current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– Destination is object in sam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 – Destination i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bject in sam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 – Destination i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bject in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o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99B5-7F63-46DB-AB76-B9A9331BD7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, with hard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89B-3E76-4756-A96D-D79432AC99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8" descr="TreeGraph.png"/>
          <p:cNvPicPr/>
          <p:nvPr/>
        </p:nvPicPr>
        <p:blipFill>
          <a:blip r:embed="rId1"/>
          <a:stretch/>
        </p:blipFill>
        <p:spPr>
          <a:xfrm>
            <a:off x="2262240" y="1774800"/>
            <a:ext cx="440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Tree, with hard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C3B5-4CAD-4353-965F-8A6A0DEB61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9" descr="NonTreeGraph.png"/>
          <p:cNvPicPr/>
          <p:nvPr/>
        </p:nvPicPr>
        <p:blipFill>
          <a:blip r:embed="rId1"/>
          <a:stretch/>
        </p:blipFill>
        <p:spPr>
          <a:xfrm>
            <a:off x="2262240" y="1774800"/>
            <a:ext cx="440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clic, with hard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278-9B18-4B34-8552-04588F9A77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CyclicGraph.png"/>
          <p:cNvPicPr/>
          <p:nvPr/>
        </p:nvPicPr>
        <p:blipFill>
          <a:blip r:embed="rId1"/>
          <a:stretch/>
        </p:blipFill>
        <p:spPr>
          <a:xfrm>
            <a:off x="2262240" y="1774800"/>
            <a:ext cx="5154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, with soft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78D2-509C-46DD-B43B-5B8B8AA42B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TreeGraphSoftLinks.png"/>
          <p:cNvPicPr/>
          <p:nvPr/>
        </p:nvPicPr>
        <p:blipFill>
          <a:blip r:embed="rId1"/>
          <a:stretch/>
        </p:blipFill>
        <p:spPr>
          <a:xfrm>
            <a:off x="2266920" y="1774800"/>
            <a:ext cx="5472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, with external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E54-AA2A-47AC-921B-A57C617EA8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TreeGraphEntLinks.png"/>
          <p:cNvPicPr/>
          <p:nvPr/>
        </p:nvPicPr>
        <p:blipFill>
          <a:blip r:embed="rId1"/>
          <a:stretch/>
        </p:blipFill>
        <p:spPr>
          <a:xfrm>
            <a:off x="2262240" y="1774800"/>
            <a:ext cx="56055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s -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happen if links didn’t have names, but objects had nam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ther types of links are usefu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A2C-50C3-4B36-A139-622E97BAA7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20:06:45Z</dcterms:created>
  <dc:creator>Ruth Aydt</dc:creator>
  <dc:description/>
  <dc:language>en-US</dc:language>
  <cp:lastModifiedBy>Anastasia Alexov</cp:lastModifiedBy>
  <cp:lastPrinted>2010-07-07T19:59:32Z</cp:lastPrinted>
  <dcterms:modified xsi:type="dcterms:W3CDTF">2010-09-14T08:03:42Z</dcterms:modified>
  <cp:revision>181</cp:revision>
  <dc:subject/>
  <dc:title>Slide 1</dc:title>
</cp:coreProperties>
</file>